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FCC0-745A-4F81-9014-22C10C1FF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44C1-9AB0-417C-84ED-BA652081E76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D10B-FEB6-403D-BCEE-71DF7BF6D9C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E4A9-4EF3-44D1-A05A-892A798D2BE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5642-E7BF-4C64-9307-99AF6F20809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B97A-064E-476F-A0E5-BC5B9ECF649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624BE-9C9B-44C4-907A-5DB753ADDDA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F332-4C98-423E-9423-AFC3F10A32D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CD6B-C258-4F41-8E49-7716F45F8BD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A5BE-43BB-4C97-912E-9E52FA1BB7E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7615-B57F-48EA-BD8E-C7010EB50FC5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F6B7-4E3F-4DDA-941E-516B1E3E530E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37E90-4169-4051-8A35-5DAC2B466ED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4600-C1A4-4591-8E94-A2D7E57C004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774B-3005-4834-BC71-40144965765D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7E77-8B71-4B8C-BFF7-5A3774287B2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AF47-71F3-4417-95FB-70CEDA930217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C330-3FDE-4300-92B8-3C5C7F601C3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1461-9440-4EDF-BAD4-385612E67BFC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DDB1-92BA-4275-8DBE-7059FB8E0768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38D1-D6F0-44A0-B33C-780E52BFE103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1E52-5E76-4CE0-828C-232AE6A0F6E0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139F-A12F-41F5-B5DD-7C91DB1E9F6B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AAD0-4878-4CAB-AD35-765F8678533A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5646-BA1D-4F47-A325-94E6CE2695E1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B6E72-841E-4D12-953F-45E8EA8CD9A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6965-7D70-48DF-BBF2-FFB18A876649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10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39E-E48E-4468-BB15-A850B77297F6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376D-5B00-4071-8AE2-9D00BDC5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BBFF-3FF9-4EC7-8177-3A6FA444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54C-7133-488A-BBB8-47850B96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592-93CD-4FAE-8A89-BA44465F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D78F-BCB2-4AAB-89E6-04EF83054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6232-AD33-4EAC-8AA9-9CC1B110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1873-D6F0-4A6C-A2AA-BCB0E630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BD21-BF73-4E28-B168-E402B90A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156BF-F852-4DE8-9E61-C07A11C0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8D6-660F-4776-A1E9-114DE84D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A579-21E9-47FA-8FAA-D615A19A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C72-05DA-476A-9C79-B2FD61C1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3621-2AA9-454B-BD01-B0E6A634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DF1E-2EC2-40CC-9B3E-222DD13A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28A2-A9A3-4192-9F10-6A653E80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A73C4-23DA-468A-A477-CAEDF4A6A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A159-AC7F-4305-ADE4-74BB40D5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40AF-0D66-422E-B981-1FF0A0AF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D2D-80A4-4CC4-8072-62CF584A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BAB-0FBA-48C8-B5D4-A1AEA6FF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3334-48DF-419F-B618-992C56F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556-F62D-466C-9771-D44ED0B4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9084-9F29-4664-84D9-F541CA3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FA8-F0E7-4459-A1D6-5F931CCF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2344-B369-47CD-ADD3-0E0E297A0C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158E-4389-46FD-A4EA-8292EE6D85BC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512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Times New Roman"/>
              </a:rPr>
              <a:t>ALCOHOL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6" name="Picture 3" descr="23035392"/>
          <p:cNvPicPr/>
          <p:nvPr/>
        </p:nvPicPr>
        <p:blipFill>
          <a:blip r:embed="rId1"/>
          <a:stretch/>
        </p:blipFill>
        <p:spPr>
          <a:xfrm>
            <a:off x="380880" y="2895480"/>
            <a:ext cx="3094200" cy="381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A5MRD5"/>
          <p:cNvPicPr/>
          <p:nvPr/>
        </p:nvPicPr>
        <p:blipFill>
          <a:blip r:embed="rId2"/>
          <a:stretch/>
        </p:blipFill>
        <p:spPr>
          <a:xfrm>
            <a:off x="762120" y="152280"/>
            <a:ext cx="1819080" cy="2667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main1"/>
          <p:cNvPicPr/>
          <p:nvPr/>
        </p:nvPicPr>
        <p:blipFill>
          <a:blip r:embed="rId3"/>
          <a:stretch/>
        </p:blipFill>
        <p:spPr>
          <a:xfrm>
            <a:off x="5105520" y="1752480"/>
            <a:ext cx="3355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IRRHOSI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carring of the liv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o blood flow in scarred are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iver cannot func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ymptoms: high blood pressure, abdominal swelling, jaundi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RREVERSIBLE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ealthy liver"/>
          <p:cNvPicPr/>
          <p:nvPr/>
        </p:nvPicPr>
        <p:blipFill>
          <a:blip r:embed="rId1"/>
          <a:stretch/>
        </p:blipFill>
        <p:spPr>
          <a:xfrm>
            <a:off x="304920" y="838080"/>
            <a:ext cx="4876560" cy="3195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alcoholicliver"/>
          <p:cNvPicPr/>
          <p:nvPr/>
        </p:nvPicPr>
        <p:blipFill>
          <a:blip r:embed="rId2"/>
          <a:stretch/>
        </p:blipFill>
        <p:spPr>
          <a:xfrm>
            <a:off x="5257800" y="380880"/>
            <a:ext cx="3679920" cy="55627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457200" y="41911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Health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486400" y="6095880"/>
            <a:ext cx="36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Alcoholic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91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omach/Pancre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omach acids increase, which often results in nausea and vomit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rritation occurs in the stomach lining, causing open sores called ulcers; pancreas becomes inflam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inge Drink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5 or more drinks in a sitting for 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4 or more drinks in a sitting for wome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Alcohol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unplanned unprotected sex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y lead to drug u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-27756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ny high school/college students die from alcohol poisoning from binge drinking on the weekend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angers of Binge Drinking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intentional injuries (e.g. car crash, falls, burns, drowning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Intentional injuries (e.g. firearm injuries, sexual assault, domestic violence)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cohol poisoning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TD’s and/or Unintended pregnancy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, stroke, and other cardiovascular diseases.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Diseas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Factors affecting the amount of alcohol in a person’s blood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6858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en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etabolis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(not # of drinks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hey weigh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ow much time elapses after or between drink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Drinking and Driv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rinking alcohol impairs vision, reaction time, and coordination.  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WI and DUI –leading cause of death among tee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 of intoxication can begin to appear as low as 0.0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re is no acceptable BAC level for anyone under 2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438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cc00"/>
                </a:solidFill>
                <a:latin typeface="Times New Roman"/>
              </a:rPr>
              <a:t>SAFEST AMOUNT OF DRINKS  = 0!!!</a:t>
            </a:r>
            <a:br>
              <a:rPr sz="8800"/>
            </a:br>
            <a:br>
              <a:rPr sz="8800"/>
            </a:b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This is at any age!!!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Consequences of teen DUI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Harm to the driver and other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everely restricted driving privileg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cohol related injuries, property damage, and death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ing with remorse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Blood Alcohol Concentration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mount of alcohol in a person’s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CA is .08%  for people 21 years old and olde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gal limit for CA is zero for people under 2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71640" y="981000"/>
            <a:ext cx="723888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81% of High School Students report having tried alcohol at least onc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Starting as early as Junior High!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bac_(fe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bac_(male)3"/>
          <p:cNvPicPr/>
          <p:nvPr/>
        </p:nvPicPr>
        <p:blipFill>
          <a:blip r:embed="rId1"/>
          <a:stretch/>
        </p:blipFill>
        <p:spPr>
          <a:xfrm>
            <a:off x="0" y="0"/>
            <a:ext cx="9144000" cy="70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Alcohol Poisoning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angerous to just “sleep it off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ental confusion, coma, inability to be excited, vomiting, and seizur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low Respiratio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*Hypothermia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*Dehydration *Irregular heartbe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LL 911 immediately if suspicious of poisoning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are some things that people do to ‘sober up’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SOBERS A PERSON UP THE FASTEST???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TIME!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lcoholism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disease in which a person has a physical or psychological dependence on drinks that contain alcoh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haracterized as an impaired ability to study, work, or socialize normall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3 Stages of Alcoholism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rly Stage (Stage 1)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o relax, reliev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eads to necessity to manage str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begins to become intoxicated regularl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makes excuses and tries to rationalize drinking behavio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8762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cc00"/>
                </a:solidFill>
                <a:latin typeface="Times New Roman"/>
              </a:rPr>
              <a:t>Treatment</a:t>
            </a:r>
            <a:endParaRPr b="0" lang="en-US" sz="69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not be cur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an be treated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Counseling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Medicatio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Depressant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ontains intoxicating substance called ethyl alcohol or ethano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Slows down the functions of the brain and other parts of the nervous syste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2" name="Picture 4" descr="j0195872"/>
          <p:cNvPicPr/>
          <p:nvPr/>
        </p:nvPicPr>
        <p:blipFill>
          <a:blip r:embed="rId1"/>
          <a:stretch/>
        </p:blipFill>
        <p:spPr>
          <a:xfrm>
            <a:off x="6477120" y="914400"/>
            <a:ext cx="2438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lcohol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-152640" y="1447920"/>
            <a:ext cx="9296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duced by a fermentation proces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Proof is the amount of alcohol in the substance (ex. 100 proof bottle of vodka is 50% alcohol)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12 oz. Beer = 4 oz. Wine = 1 oz. liquo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imes New Roman"/>
              </a:rPr>
              <a:t>Effects of Alcohol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eart/Blood Vessel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erspiration increases and skin becomes flushed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High blood pressure and damage to the heart muscle; blood vessels harden and become less flexibl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More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rain/Nervous Syste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Speech is slurred and difficulty walking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Brain cells are destroyed and unable to be replaced; damage to nerves in body resulting in numbness in hands and feet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Picture 4" descr="j0305551"/>
          <p:cNvPicPr/>
          <p:nvPr/>
        </p:nvPicPr>
        <p:blipFill>
          <a:blip r:embed="rId1"/>
          <a:stretch/>
        </p:blipFill>
        <p:spPr>
          <a:xfrm>
            <a:off x="7086600" y="1295280"/>
            <a:ext cx="1797120" cy="23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…</a:t>
            </a: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The Rest of Alcohol Effects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hort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changes alcohol into water and carbon dioxid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ong Term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2" marL="925560" indent="-1850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Liver is damaged possibly resulting in cirrhosis (scarring and destruction of the liver)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an only oxidize about 1 serving of alcohol an hou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O WAY to speed up this proces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ntil liver has had time to oxidize all of the alcohol ingested, it keeps circulating through the bloodstrea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Liver Damage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7345440" cy="29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FATTY LIV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1100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cohol interferes with body’s ability to break down fat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7:46:11Z</dcterms:created>
  <dc:creator>Nancy</dc:creator>
  <dc:description/>
  <dc:language>en-US</dc:language>
  <cp:lastModifiedBy>Daly Dominguez</cp:lastModifiedBy>
  <cp:lastPrinted>2008-06-19T00:55:33Z</cp:lastPrinted>
  <dcterms:modified xsi:type="dcterms:W3CDTF">2016-01-19T20:03:15Z</dcterms:modified>
  <cp:revision>11</cp:revision>
  <dc:subject/>
  <dc:title>ALCOHOL</dc:title>
</cp:coreProperties>
</file>